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AF2-410A-408F-8F12-1C6B6F82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167-5232-4BBA-9BFE-8AFA3E9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F29-4E01-4E63-953E-E9F4DF4F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AE5-F21D-4A3C-BA7F-61D1DF51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558-D5A4-422C-9EE4-8F515084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F02-75BC-4087-B96B-8BC6751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C86-CE8B-45B5-944E-9B62E325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069-7A4F-43F9-BD70-ED3FCA5D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3E5-A43D-4178-A3B9-E4166F6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F9D-48D2-4339-B99F-A34A243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850-B47B-4649-BD71-B0A2C1C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B95-479D-4F08-98C1-716D9F3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550-97F2-45BE-8195-3537417F2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JZdzW7Z4eIA/SdsqCJmnVjI/AAAAAAAAAH8/WWdcWQfbrE8/s1600-h/Rorschach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://img.66.ru/image/5bb1df51bfa593d8811bfebaf61875f0/47dd6289/0/44/34/443475_normal.jpg"/>
          <p:cNvPicPr/>
          <p:nvPr/>
        </p:nvPicPr>
        <p:blipFill>
          <a:blip r:embed="rId1"/>
          <a:stretch/>
        </p:blipFill>
        <p:spPr>
          <a:xfrm>
            <a:off x="-457200" y="-136440"/>
            <a:ext cx="1035360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4.bp.blogspot.com/_ybECwyo1hn8/SciLZB89nXI/AAAAAAAAAWQ/7AzFaW7N-vo/s320/bourreau.jpg"/>
          <p:cNvPicPr/>
          <p:nvPr/>
        </p:nvPicPr>
        <p:blipFill>
          <a:blip r:embed="rId1"/>
          <a:stretch/>
        </p:blipFill>
        <p:spPr>
          <a:xfrm>
            <a:off x="1600200" y="0"/>
            <a:ext cx="4952880" cy="74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1.bp.blogspot.com/_JZdzW7Z4eIA/SdsqCJmnVjI/AAAAAAAAAH8/WWdcWQfbrE8/s320/Rorscha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14400" y="0"/>
            <a:ext cx="1045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arriagerepaircenter.com/marriagerepaircenter011001.jpg"/>
          <p:cNvPicPr/>
          <p:nvPr/>
        </p:nvPicPr>
        <p:blipFill>
          <a:blip r:embed="rId1"/>
          <a:stretch/>
        </p:blipFill>
        <p:spPr>
          <a:xfrm>
            <a:off x="-549360" y="228600"/>
            <a:ext cx="9693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quondam.com/08/0749i02.jpg"/>
          <p:cNvPicPr/>
          <p:nvPr/>
        </p:nvPicPr>
        <p:blipFill>
          <a:blip r:embed="rId1"/>
          <a:stretch/>
        </p:blipFill>
        <p:spPr>
          <a:xfrm>
            <a:off x="762120" y="-152280"/>
            <a:ext cx="78310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honolulu.hawaii.edu/distance/sci122/Programs/p3/Rorschach.gif"/>
          <p:cNvPicPr/>
          <p:nvPr/>
        </p:nvPicPr>
        <p:blipFill>
          <a:blip r:embed="rId1"/>
          <a:stretch/>
        </p:blipFill>
        <p:spPr>
          <a:xfrm>
            <a:off x="1295280" y="0"/>
            <a:ext cx="60199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fred5080145.files.wordpress.com/2008/09/mo469fd.gif"/>
          <p:cNvPicPr/>
          <p:nvPr/>
        </p:nvPicPr>
        <p:blipFill>
          <a:blip r:embed="rId1"/>
          <a:stretch/>
        </p:blipFill>
        <p:spPr>
          <a:xfrm>
            <a:off x="1752480" y="-154080"/>
            <a:ext cx="534672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utpsyc.org/TATintro/TATlab.jpg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sfu.ca/~achanne/psychtests/TAT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sfu.ca/~achanne/psychtests/TAT08GF.jpg"/>
          <p:cNvPicPr/>
          <p:nvPr/>
        </p:nvPicPr>
        <p:blipFill>
          <a:blip r:embed="rId1"/>
          <a:stretch/>
        </p:blipFill>
        <p:spPr>
          <a:xfrm>
            <a:off x="1447920" y="-85680"/>
            <a:ext cx="56386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31:11Z</dcterms:created>
  <dc:creator>BHS</dc:creator>
  <dc:description/>
  <dc:language>en-US</dc:language>
  <cp:lastModifiedBy>BHS</cp:lastModifiedBy>
  <dcterms:modified xsi:type="dcterms:W3CDTF">2010-01-22T15:50:18Z</dcterms:modified>
  <cp:revision>2</cp:revision>
  <dc:subject/>
  <dc:title>Slide 1</dc:title>
</cp:coreProperties>
</file>